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784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548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56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784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548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784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548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56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784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548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4784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5480" y="119808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056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4784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5480" y="3817800"/>
            <a:ext cx="27590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1480" y="381780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480" y="1198080"/>
            <a:ext cx="41814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3817800"/>
            <a:ext cx="8569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7705800" y="4640400"/>
            <a:ext cx="46656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15520" y="6523200"/>
            <a:ext cx="420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442E-E254-4DCB-AD83-DFEA48DE1E7F}" type="slidenum">
              <a:rPr b="1" lang="it-IT" sz="13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582480" y="1484280"/>
            <a:ext cx="7979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2" marL="1141560" indent="-227160">
              <a:spcBef>
                <a:spcPts val="726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4" marL="205596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5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6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79280" y="6440400"/>
            <a:ext cx="140184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3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-47160" bIns="-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4"/>
          <p:cNvSpPr/>
          <p:nvPr/>
        </p:nvSpPr>
        <p:spPr>
          <a:xfrm>
            <a:off x="188280" y="44280"/>
            <a:ext cx="1055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cc"/>
                </a:solidFill>
                <a:latin typeface="Comic Sans MS"/>
              </a:rPr>
              <a:t>A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it-IT" sz="3000" spc="-1" strike="noStrike">
                <a:solidFill>
                  <a:srgbClr val="3333cc"/>
                </a:solidFill>
                <a:latin typeface="Comic Sans MS"/>
              </a:rPr>
              <a:t>L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260280"/>
            <a:ext cx="8817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087640" y="347760"/>
            <a:ext cx="4968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t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jec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chnology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Dipartimento di Ingegneria dell’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Università degli Studi di P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263600" cy="12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5"/>
          <p:cNvSpPr/>
          <p:nvPr/>
        </p:nvSpPr>
        <p:spPr>
          <a:xfrm>
            <a:off x="456120" y="287280"/>
            <a:ext cx="134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A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2" marL="1141560" indent="-227160">
              <a:spcBef>
                <a:spcPts val="726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4" marL="205596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5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6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260280"/>
            <a:ext cx="8817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5"/>
          <p:cNvSpPr/>
          <p:nvPr/>
        </p:nvSpPr>
        <p:spPr>
          <a:xfrm>
            <a:off x="456120" y="287280"/>
            <a:ext cx="134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A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it-IT" sz="4000" spc="-1" strike="noStrike">
                <a:solidFill>
                  <a:srgbClr val="3333cc"/>
                </a:solidFill>
                <a:latin typeface="Comic Sans MS"/>
              </a:rPr>
              <a:t>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11"/>
          <p:cNvSpPr/>
          <p:nvPr/>
        </p:nvSpPr>
        <p:spPr>
          <a:xfrm>
            <a:off x="646200" y="2163600"/>
            <a:ext cx="7851600" cy="3198960"/>
          </a:xfrm>
          <a:prstGeom prst="rect">
            <a:avLst/>
          </a:prstGeom>
          <a:noFill/>
          <a:ln w="158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250560" y="1198080"/>
            <a:ext cx="856908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2" marL="1141560" indent="-227160">
              <a:spcBef>
                <a:spcPts val="726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4" marL="2055960" indent="-228600">
              <a:spcBef>
                <a:spcPts val="726"/>
              </a:spcBef>
              <a:buClr>
                <a:srgbClr val="3333cc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5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  <a:p>
            <a:pPr lvl="6" marL="205596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28800" y="3933360"/>
            <a:ext cx="728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Tesi di Laurea di Nome Cognom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Relatore: Chiar.mo Prof. Agostino Pogg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Correlatore:  …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050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 Black"/>
              </a:rPr>
              <a:t>Titolo</a:t>
            </a:r>
            <a:endParaRPr b="1" lang="en-US" sz="33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560" y="1198080"/>
            <a:ext cx="856908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28800" y="3933360"/>
            <a:ext cx="728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Tesi di Laurea di Nome Cognom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Relatore: Chiar.mo Prof. Agostino Pogg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Correlatore:  …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2050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3333cc"/>
                </a:solidFill>
                <a:latin typeface="Arial Black"/>
              </a:rPr>
              <a:t>Grazie per l’attenzione</a:t>
            </a:r>
            <a:r>
              <a:rPr b="1" lang="en-US" sz="3300" spc="-1" strike="noStrike">
                <a:solidFill>
                  <a:srgbClr val="3333cc"/>
                </a:solidFill>
                <a:latin typeface="Arial Black"/>
              </a:rPr>
              <a:t>!</a:t>
            </a:r>
            <a:endParaRPr b="1" lang="en-US" sz="33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9:08:31Z</dcterms:created>
  <dc:creator>Agostino Poggi</dc:creator>
  <dc:description/>
  <dc:language>en-US</dc:language>
  <cp:lastModifiedBy>poggi</cp:lastModifiedBy>
  <dcterms:modified xsi:type="dcterms:W3CDTF">2010-03-17T09:16:40Z</dcterms:modified>
  <cp:revision>5</cp:revision>
  <dc:subject/>
  <dc:title>TITOLO</dc:title>
</cp:coreProperties>
</file>